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4E6-A26D-4F9E-800C-2998E2B7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A49-62CB-46FA-9854-271653B3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731-85F4-4551-9AAB-274BC924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458-1C6F-43A1-BB62-50BBA954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0A43-C4E0-4CE2-8817-55A49BB13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9FB0-35E3-43F7-BD3F-4B9B13BB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AA53-FAAB-4881-BD51-45AA5A85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32BF-B2C8-4A36-B684-37B6E736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D600-B9A2-466B-9C94-73FDEB9D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DA18-BF75-48F5-B421-DCC70D89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6AA0-C397-4045-9D57-CAA01BC8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D3B-B922-46FF-B7BC-466A9D26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B57B-66AB-4467-A0D1-73804E43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61F1-8983-475D-8472-97E83258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21E4-F97F-46EA-B054-75759C29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B233-5406-4C4F-9362-5167C056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EED9-7DE2-4DA4-9B1E-19358C94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778-1E50-42CA-B765-0E7075CF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FC2-CAF6-40DB-BD0E-56A3D78D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935-EEE0-4FA0-B6BE-BC8ED7BB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A828-32B2-40C6-A2A0-3B7E5D1E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4FA-DC63-4BDB-B9E0-E2066899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639C-4628-4E48-8506-64BA2FB3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FD1-E183-412E-96F6-9F941802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216C-3398-46CA-84F6-49545E8E8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E044-D092-4E09-90CB-F6883204ED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2: Invers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27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multiplies x by 2 and subtracts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3 to x and then divides b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920" y="3962520"/>
          <a:ext cx="3733560" cy="1269720"/>
        </p:xfrm>
        <a:graphic>
          <a:graphicData uri="http://schemas.openxmlformats.org/drawingml/2006/table">
            <a:tbl>
              <a:tblPr/>
              <a:tblGrid>
                <a:gridCol w="745920"/>
                <a:gridCol w="747720"/>
                <a:gridCol w="745920"/>
                <a:gridCol w="747720"/>
                <a:gridCol w="74628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267080" y="3962520"/>
          <a:ext cx="4724640" cy="1269720"/>
        </p:xfrm>
        <a:graphic>
          <a:graphicData uri="http://schemas.openxmlformats.org/drawingml/2006/table">
            <a:tbl>
              <a:tblPr/>
              <a:tblGrid>
                <a:gridCol w="944640"/>
                <a:gridCol w="946080"/>
                <a:gridCol w="943200"/>
                <a:gridCol w="946080"/>
                <a:gridCol w="94464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39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-18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-62 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invers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one-to-on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inverse functions symbol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ther representations to find invers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inver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verse is a method of undoing an op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 and subtraction are inver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on and division are inver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verse of a function effectively switches the input and the 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inver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tation for the inverse of f is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(x)=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(a)=b, then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=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81480" y="2971800"/>
            <a:ext cx="39625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is a one-to-one function if, when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b, f(a) ≠f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must pass the horizontal line 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sentially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nction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-to-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no two value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e the sa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3809880" cy="2487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05520" y="380988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28600" y="3733920"/>
            <a:ext cx="3809880" cy="2508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105520" y="3809880"/>
            <a:ext cx="3429000" cy="2381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105520" y="3657600"/>
            <a:ext cx="358128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inv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it is one-to-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f(x) as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x= as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at (f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(x)=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a f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2x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 few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f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and 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 of f is the range of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f is the domain of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and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ons of each other across the line y=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is f(x)=4x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2400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0:29:10Z</dcterms:created>
  <dc:creator>nuhs</dc:creator>
  <dc:description/>
  <dc:language>en-US</dc:language>
  <cp:lastModifiedBy>nuhs</cp:lastModifiedBy>
  <dcterms:modified xsi:type="dcterms:W3CDTF">2008-02-27T21:23:36Z</dcterms:modified>
  <cp:revision>3</cp:revision>
  <dc:subject/>
  <dc:title>5.2: Inverse Functions</dc:title>
</cp:coreProperties>
</file>